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C13C-D78A-459D-B6F8-FBFEE5405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249-2DE8-4C0A-B207-F1B428FE2B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F1C-DD32-468B-AAF7-81718FDBB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67F-BCCA-4CF6-AAF9-A77A90822E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98F-30A2-4312-918A-D544FC2B24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0D1-6E75-4001-B95A-2DE8B3D6E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FCF-AB80-4394-9AAF-452560D202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8989-C4B1-4664-9629-4BF64FDCFB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38A6-BB45-4EBA-849A-003D03B6A3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2B18-3B3D-42A5-B154-AFB204F5B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9A65-AB18-45BA-8EA5-B167920CE7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9A2C-53A8-49C1-A57D-EAE607586F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07E-A0E3-4146-AD55-C2A4079777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3430-8ECD-4D47-AE6F-CA6F0FC68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C23A-3F6F-4D67-8279-FB9490A3B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364-CC06-43A3-9610-B9852247A7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9311-FB95-47CA-AD37-E2EB1873F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1DF5-AAA8-442A-94F3-467A362620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59D-42ED-4A7F-B196-11FA7B1040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F4FD-0BFC-460A-BBAC-23D26302E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9F8F-0EE4-4A41-8633-F483F42DC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53ED-646B-4713-9B48-0AB652E87D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F1BF-5564-40AC-A37F-C58EE49DF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792-316D-4E0B-A2B5-34EB05A203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5FB8-F8CF-4DDA-BAB7-AD401D4F83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01E-F461-4FE5-AEA2-3F364E772C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C26B-0EB7-4E35-B07E-81055F44A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1805-93A9-4909-8E47-1501C84A7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9942-B7EB-43F2-ACFC-7A9337C7F5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B95F-ABEF-4DEE-B6CE-535499036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2F9-1AC9-4C89-AC1F-C46C5D72C2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E693-83C4-4236-8C1D-82CBF2710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C014-B7AB-4DC3-ADC1-47A2EC3120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785-7A1E-453B-850B-E10C37A68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2C56-7107-4C7B-B315-42E53BAC44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4DB-3AB7-400C-8A29-B71067156F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AC38-E712-4B6A-A9CA-2B2E789DBB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09EA-8FFB-4D60-96BB-08886EA9A9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667-CE71-49B3-B75B-392F6CBB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CB6-CE37-4787-873D-35F70D20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B42-B2B5-45CF-8B9E-3311AB6E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E10-D04A-4396-B81D-595180BA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7D7-B976-47BB-8D09-0516D2D9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2A9E-83F5-4DC5-A404-72FBB760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DCB1-ECE2-4BB1-9550-4ACB77BD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B6EE-B0E3-48E0-9EFB-61415E77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41C-DFE3-47D7-8D58-AD1229B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61C9-6426-49F2-B819-3F848785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D6F-4DAB-4DD2-BAE4-D5573150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1DA-DFBC-41DE-B1E9-4E8923A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6968-7A43-4ACE-AE9E-3999437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59C6-CAB0-418B-AC4E-2965B33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9821-6B6A-4107-81C7-0349F032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28AA-AF1C-4E21-B0B8-C5B87105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B59-BBD1-4F50-B9ED-B14856D4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544-B73F-4A09-9A22-71B67155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AFD-4C7E-4CB6-9E64-E0291672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237-04F4-450C-939C-874C9C1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4D5-0499-4BC4-9F78-CB3B1906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258-5934-42F3-AB2C-A897AD9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F7A-8AF0-4D09-B85A-9F30458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3FA-1EE4-4CC4-B768-DCFDF99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43E8-D564-4153-B02B-9107440A1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3C7A-AECA-4DCB-A63D-C7FABA920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nywhere.com/folder" TargetMode="External"/><Relationship Id="rId2" Type="http://schemas.openxmlformats.org/officeDocument/2006/relationships/hyperlink" Target="http://www.anywhere.com/folder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ol.com/" TargetMode="External"/><Relationship Id="rId2" Type="http://schemas.openxmlformats.org/officeDocument/2006/relationships/hyperlink" Target="http://www.netscape.com/" TargetMode="External"/><Relationship Id="rId3" Type="http://schemas.openxmlformats.org/officeDocument/2006/relationships/hyperlink" Target="http://www.yahoo.com/" TargetMode="External"/><Relationship Id="rId4" Type="http://schemas.openxmlformats.org/officeDocument/2006/relationships/hyperlink" Target="http://www.firstgov.gov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36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oftwareinreview.com/images/windows/vista/windows_vista.pn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Basic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perating system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the operations of the computer and its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 OS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eop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gical devic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kette – A: (older machines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Drive - 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-ROM -  D: (maybe differ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 Storage – (Next letter assigned by Windo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derstanding File Storag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S – a collection of data that has a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d by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ord - .doc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Point - .p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- .xls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age location for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to organiz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5760" y="457200"/>
            <a:ext cx="8053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anaging Files &amp; Fol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ing and keeping track of files and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Hierarchy places files in folders, then place folders in other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orking in the Folder Windo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der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nd Renam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for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&amp; Mov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and Restore Files &amp; F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Shortcut to a File &amp; Fo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derstanding the clip boa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s the selected data from its original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p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duplicate of select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lected data that is cut/copy is placed in the clipboard for further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in the clipboard is later inserted in the position where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s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 is issu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chool Networking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cal Area Network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13592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geographical 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s of a number of computers connected to a central compu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4" descr="Fig2-07"/>
          <p:cNvPicPr/>
          <p:nvPr/>
        </p:nvPicPr>
        <p:blipFill>
          <a:blip r:embed="rId1"/>
          <a:stretch/>
        </p:blipFill>
        <p:spPr>
          <a:xfrm>
            <a:off x="3352680" y="4343400"/>
            <a:ext cx="38102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CHOOL’S LOCAL AREA NETWORK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Picture 4" descr="Fig2-08"/>
          <p:cNvPicPr/>
          <p:nvPr/>
        </p:nvPicPr>
        <p:blipFill>
          <a:blip r:embed="rId1"/>
          <a:stretch/>
        </p:blipFill>
        <p:spPr>
          <a:xfrm>
            <a:off x="2638440" y="1946160"/>
            <a:ext cx="48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WHAT IS A PERSONAL COMPUTER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designed for use by one person at a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BM Personal Comp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 Macinto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BM Compa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0" descr="Fig1-04a"/>
          <p:cNvPicPr/>
          <p:nvPr/>
        </p:nvPicPr>
        <p:blipFill>
          <a:blip r:embed="rId1"/>
          <a:stretch/>
        </p:blipFill>
        <p:spPr>
          <a:xfrm>
            <a:off x="1371600" y="5105520"/>
            <a:ext cx="365760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Fig1-04b"/>
          <p:cNvPicPr/>
          <p:nvPr/>
        </p:nvPicPr>
        <p:blipFill>
          <a:blip r:embed="rId2"/>
          <a:stretch/>
        </p:blipFill>
        <p:spPr>
          <a:xfrm>
            <a:off x="6172200" y="4897440"/>
            <a:ext cx="26668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rv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entral computer that manages resources on a network and provide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computers are called clients or works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066680" y="3978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ub/Switch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95480" y="480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s the computers to printers and Internet 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ide Area Net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53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vers a large geographic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Distr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Fig2-09"/>
          <p:cNvPicPr/>
          <p:nvPr/>
        </p:nvPicPr>
        <p:blipFill>
          <a:blip r:embed="rId1"/>
          <a:stretch/>
        </p:blipFill>
        <p:spPr>
          <a:xfrm>
            <a:off x="6172200" y="2286000"/>
            <a:ext cx="277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BENEFITS OF COMPUTER NETWORKS IN EDUC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ing of computer hardware, software, and data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mited education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with other educators and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4" descr="Fig2-11"/>
          <p:cNvPicPr/>
          <p:nvPr/>
        </p:nvPicPr>
        <p:blipFill>
          <a:blip r:embed="rId1"/>
          <a:stretch/>
        </p:blipFill>
        <p:spPr>
          <a:xfrm>
            <a:off x="5132520" y="270504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WIRELESS SCHOOLS AND CLASSROOM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book comp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held comp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eless technology brings the computer lab to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4" descr="Fig2-10"/>
          <p:cNvPicPr/>
          <p:nvPr/>
        </p:nvPicPr>
        <p:blipFill>
          <a:blip r:embed="rId1"/>
          <a:stretch/>
        </p:blipFill>
        <p:spPr>
          <a:xfrm>
            <a:off x="5132520" y="271764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HIGH SPEED OR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BROADBAND ACCES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works to provide high speed Internet access to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band technology transmits signals at much faster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net and World Wide Web   Over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7" name="Picture 6" descr="C:\Documents and Settings\Issac\Application Data\Microsoft\Media Catalog\Downloaded Clips\cl2\BD07246_.wmf"/>
          <p:cNvPicPr/>
          <p:nvPr/>
        </p:nvPicPr>
        <p:blipFill>
          <a:blip r:embed="rId1"/>
          <a:stretch/>
        </p:blipFill>
        <p:spPr>
          <a:xfrm>
            <a:off x="3886200" y="685800"/>
            <a:ext cx="18194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wide group of connected networks that allow public access to information and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d 1.5 billion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ngle organization owns or contr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7826400" y="6553080"/>
            <a:ext cx="33804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nect to the Internet though an Internet Service Provider (IS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ble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Subscriber Line (DS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ber Optics (Fi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The WORLD WIDE WEB (WWW) 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ldwide collection of electronic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t-in Hyper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al interf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C:\Documents and Settings\Issac\Application Data\Microsoft\Media Catalog\Downloaded Clips\cl55\j0213540.gif"/>
          <p:cNvPicPr/>
          <p:nvPr/>
        </p:nvPicPr>
        <p:blipFill>
          <a:blip r:embed="rId1"/>
          <a:stretch/>
        </p:blipFill>
        <p:spPr>
          <a:xfrm>
            <a:off x="5867280" y="1371600"/>
            <a:ext cx="16002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b Si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 of related web pages -electronic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b site has a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e 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e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ther Personal Comput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iform Resource Locators (URL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address for each page on a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nywhere.Com/fo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xt Transfer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protocol used to transfer pages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1028" descr="C:\Documents and Settings\Issac\Application Data\Microsoft\Media Catalog\Downloaded Clips\cl7b\j0309261.jpg"/>
          <p:cNvPicPr/>
          <p:nvPr/>
        </p:nvPicPr>
        <p:blipFill>
          <a:blip r:embed="rId3"/>
          <a:stretch/>
        </p:blipFill>
        <p:spPr>
          <a:xfrm>
            <a:off x="2743200" y="522432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-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b Browsers at 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799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that allows you to browse the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Internet Explor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zilla Firef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b Port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 of looking at the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Are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et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Yah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rstgov-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arch Eng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website that locate information on the WW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Goo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Yah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net Address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ain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numeric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4114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WW.SCSITE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876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8.112.168.2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orld Wide Web (WWW) Domain  Suffix Nam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EDU  -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GOV  -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ORG -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COM- 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xyz.NET - 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320" y="2666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is every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can support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 support communications beyond classroom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of National Technology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teachertube.com/viewVideo.php?video_id=167&amp;title=Why_teach_technology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2133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Use Computer Technology in Educati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CHNOLOGY STANDAR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45800"/>
            <a:ext cx="78757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Society for Technology in Education (ISTE)- provides a framework for implementing technology in teaching and learning through the National Educational Technology Standards (NETS)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12956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COMPUTER, INFORMATION AND INTEGRATION LITERAC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puter lite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wledge and understanding of computers and their us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formation lite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wing how to find, analyze, and use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tegration litera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ability to use computers and other technologies combined with a variety of teaching and learning strateg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5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ries of instructions that tells the hardware of a computer how to perform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d on various storage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 or D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mb/flash d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02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OFTWARE – Programs that control the oper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 SOFTWARE – Programs designed to perform specific tasks for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Fig1-16"/>
          <p:cNvPicPr/>
          <p:nvPr/>
        </p:nvPicPr>
        <p:blipFill>
          <a:blip r:embed="rId1"/>
          <a:stretch/>
        </p:blipFill>
        <p:spPr>
          <a:xfrm>
            <a:off x="5100480" y="2568600"/>
            <a:ext cx="3797280" cy="2486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5410080" y="51055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Works is a popular suite used by teachers and students primarily on Macintosh 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d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>
            <a:hlinkClick r:id="rId4" action="ppaction://hlinksldjump"/>
          </p:cNvPr>
          <p:cNvSpPr/>
          <p:nvPr/>
        </p:nvSpPr>
        <p:spPr>
          <a:xfrm>
            <a:off x="3581280" y="2666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>
            <a:hlinkClick r:id="rId5" action="ppaction://hlinksldjump"/>
          </p:cNvPr>
          <p:cNvSpPr/>
          <p:nvPr/>
        </p:nvSpPr>
        <p:spPr>
          <a:xfrm>
            <a:off x="3581280" y="4952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6">
            <a:hlinkClick r:id="rId6" action="ppaction://hlinksldjump"/>
          </p:cNvPr>
          <p:cNvSpPr/>
          <p:nvPr/>
        </p:nvSpPr>
        <p:spPr>
          <a:xfrm>
            <a:off x="3581280" y="3809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7">
            <a:hlinkClick r:id="rId7" action="ppaction://hlinksldjump"/>
          </p:cNvPr>
          <p:cNvSpPr/>
          <p:nvPr/>
        </p:nvSpPr>
        <p:spPr>
          <a:xfrm>
            <a:off x="7467480" y="6095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8">
            <a:hlinkClick r:id="rId8" action="ppaction://hlinksldjump"/>
          </p:cNvPr>
          <p:cNvSpPr/>
          <p:nvPr/>
        </p:nvSpPr>
        <p:spPr>
          <a:xfrm>
            <a:off x="73152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UTER SOFTW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295280"/>
            <a:ext cx="7772400" cy="476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 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14" descr="http://tbn0.google.com/images?q=tbn:ELOoer6OPeE6pM:http://www.softwareinreview.com/images/windows/vista/windows_vist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191120"/>
            <a:ext cx="30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ttp://t2.gstatic.com/images?q=tbn:ANd9GcTyfRTd2Gipnw1C1mpSERtPBvIgvGOd98KuChLJ3ErxYF2uMfIhWQ"/>
          <p:cNvPicPr/>
          <p:nvPr/>
        </p:nvPicPr>
        <p:blipFill>
          <a:blip r:embed="rId3"/>
          <a:stretch/>
        </p:blipFill>
        <p:spPr>
          <a:xfrm>
            <a:off x="6329520" y="1066680"/>
            <a:ext cx="25081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26:22Z</dcterms:created>
  <dc:creator>Steven Freund</dc:creator>
  <dc:description/>
  <cp:keywords/>
  <dc:language>en-US</dc:language>
  <cp:lastModifiedBy>Edwards Valrie</cp:lastModifiedBy>
  <cp:lastPrinted>2009-04-22T19:24:48Z</cp:lastPrinted>
  <dcterms:modified xsi:type="dcterms:W3CDTF">2012-07-02T19:59:09Z</dcterms:modified>
  <cp:revision>122</cp:revision>
  <dc:subject/>
  <dc:title>Shelly Cashman Series  Discovering Computers A Link to the Future</dc:title>
</cp:coreProperties>
</file>